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6C1F-CAB5-4446-ACB7-BEBAFD62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A06-D341-4BB8-B58D-683CD4BA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D07-4BD4-40E2-86E3-8B8D4AEA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F2F-8F03-4ADE-820A-924F88AD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FD1-BA10-487B-A37D-D4B85D7F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595-A5E2-49F1-B448-EC01DBF8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FD61-811C-4C70-8A0D-4E850C64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EA61-0B88-4576-9385-0022EE60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4F7-D6ED-4E11-A160-690EA5C6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939B-84C1-4C0E-837A-DE386F14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7BC-C538-43B3-94E6-AF0BF486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7437-F7BF-4297-BFAE-C42AFE05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B70D-718B-48D3-8264-929B6584E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n Ott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3047760" cy="2540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76720" y="4648320"/>
            <a:ext cx="28954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of Nevada is Carson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4193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ada became a state October  31, 1864.It is the 3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ea is 110,567 square miles. It is the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9880" y="2666880"/>
            <a:ext cx="31845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3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opulation. It has 2,106,074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709596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ada state bird is the mountain blue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95480" y="2421000"/>
            <a:ext cx="41911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ada state flower is the sagebru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476244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3:51:55Z</dcterms:created>
  <dc:creator>Mother of Divine Grace</dc:creator>
  <dc:description/>
  <dc:language>en-US</dc:language>
  <cp:lastModifiedBy>Mother of Divine Grace</cp:lastModifiedBy>
  <dcterms:modified xsi:type="dcterms:W3CDTF">2012-05-10T14:32:02Z</dcterms:modified>
  <cp:revision>2</cp:revision>
  <dc:subject/>
  <dc:title>Nevada</dc:title>
</cp:coreProperties>
</file>